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4.png" ContentType="image/png"/>
  <Override PartName="/ppt/media/image53.jpeg" ContentType="image/jpeg"/>
  <Override PartName="/ppt/media/image23.png" ContentType="image/png"/>
  <Override PartName="/ppt/media/image4.jpeg" ContentType="image/jpeg"/>
  <Override PartName="/ppt/media/image61.jpeg" ContentType="image/jpeg"/>
  <Override PartName="/ppt/media/image37.jpeg" ContentType="image/jpeg"/>
  <Override PartName="/ppt/media/image57.png" ContentType="image/png"/>
  <Override PartName="/ppt/media/image2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4.png" ContentType="image/png"/>
  <Override PartName="/ppt/media/image56.wmf" ContentType="image/x-wmf"/>
  <Override PartName="/ppt/media/image16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62.jpeg" ContentType="image/jpeg"/>
  <Override PartName="/ppt/media/image63.png" ContentType="image/png"/>
  <Override PartName="/ppt/media/image24.wmf" ContentType="image/x-wmf"/>
  <Override PartName="/ppt/media/image21.jpeg" ContentType="image/jpeg"/>
  <Override PartName="/ppt/media/image22.wmf" ContentType="image/x-wmf"/>
  <Override PartName="/ppt/media/image20.jpeg" ContentType="image/jpeg"/>
  <Override PartName="/ppt/media/image59.wmf" ContentType="image/x-wmf"/>
  <Override PartName="/ppt/media/image60.png" ContentType="image/png"/>
  <Override PartName="/ppt/media/image6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11.png" ContentType="image/png"/>
  <Override PartName="/ppt/media/image50.jpeg" ContentType="image/jpeg"/>
  <Override PartName="/ppt/media/image27.jpeg" ContentType="image/jpeg"/>
  <Override PartName="/ppt/media/image5.wmf" ContentType="image/x-wmf"/>
  <Override PartName="/ppt/media/image8.png" ContentType="image/png"/>
  <Override PartName="/ppt/media/image39.jpeg" ContentType="image/jpeg"/>
  <Override PartName="/ppt/media/image17.png" ContentType="image/png"/>
  <Override PartName="/ppt/media/image52.jpeg" ContentType="image/jpe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4.jpeg" ContentType="image/jpeg"/>
  <Override PartName="/ppt/media/image40.wmf" ContentType="image/x-wmf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9.jpeg" ContentType="image/jpeg"/>
  <Override PartName="/ppt/media/image45.wmf" ContentType="image/x-wmf"/>
  <Override PartName="/ppt/media/image46.jpeg" ContentType="image/jpeg"/>
  <Override PartName="/ppt/media/image25.wmf" ContentType="image/x-wmf"/>
  <Override PartName="/ppt/media/image47.jpeg" ContentType="image/jpeg"/>
  <Override PartName="/ppt/media/image4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3B2F-3B2D-482B-A752-ACC2E9DDA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0C84-BB32-4EE2-89B7-76DB3ED57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3EFD-BB10-405E-B7F9-48E6DFA00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C508-21B9-4D73-8C3E-B1EE02441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D7F6-980E-4CF2-A552-B12502211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41040" y="4276800"/>
            <a:ext cx="51944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BC1D-7B64-484F-9842-7D1622CFE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9AAB-034B-49DD-82D2-C3CCF70E9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8FD9-2840-40AA-89D8-CC4D8362A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5257044-4DBF-40CE-9AA7-7992F9BF9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69440" y="4176720"/>
            <a:ext cx="644868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9939-0A13-4128-ACB6-5D090C57C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B7AFE20-4F01-4817-8817-D0E5C51A6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2602-B31D-423C-B3EE-29DA1F8DC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17B2F61-0DB8-4FF4-887D-E8464A64B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C3A0-43A8-4191-81D5-A3CA52308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D0A8-4A5D-4A3A-ACF5-BA57188BA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BB65152-3D94-4EEE-88CD-605084820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86E0-8EF0-4D77-A671-29FF78E1D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3F84FEB-B892-4CAD-BEEC-B11D709AD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1FFA-B98D-4CC1-91A8-D034368A1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C9A5F33-B9BB-4842-9A65-BACDF07D9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87C2-C407-4C4B-BDCF-AE892BD7D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5D3E276-DC1B-4C02-A7C0-DB4CF29F3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6527-58C8-4188-B543-4F0989591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52F638A-28CB-44FA-83B7-202683EC1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B634-580B-4F04-BC88-BD4657DA1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5D1284D-FFE6-4025-BDA0-4DC2C70D1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A518-C99A-4906-8F84-AA6B6C157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92BFD34-7A62-4C2E-9301-388FA6B31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2975-F92E-4475-96FD-935AC8016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70313E1-BE4F-44D1-AA90-38B04347D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68FA-C309-4D20-8882-7CAB5561F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A4BC0A2-323E-4CF9-BA56-815878BC7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48CB-171F-4DB6-9376-0190D49EB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91CAEDD-99BD-4E0C-ADB8-992B82371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F41E-1EE3-4D31-9BA9-BB29C0FDF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F074E3C-9815-4106-824A-DACE394CA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4B3F-FDBC-4FEA-8E40-625DA61B1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136728C-F94B-49DF-8B30-821EFE8BD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CDA4-153A-40A3-8A5B-6AA402B7A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28DD5EA-60DD-4F32-9C21-2532D40DF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25C2-9049-450D-A985-633EA5DF5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6EA1-B178-49BA-88EB-B9DD2735A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C60E-1C4A-4CDB-B7F4-29F3A9386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3DB5A8A-98F4-4139-A609-C0C1080CD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76EB-9BF1-43F0-9403-B78345F4D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60C8EC2-6778-4BFA-B848-4A6865B20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53D5-90CF-4345-A931-A661520C3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0E944CE-634D-491B-A1A9-BD2D71069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9B88-DACF-4BC7-AC76-13FC0526C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FD749B3-2845-408F-8988-0FA8EBDC1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A80C-FCA0-47C4-8D87-0215FED45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8F2D-0F0B-4346-9ABD-10222E9EC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06F1AE1-9D1D-46A0-85B3-9DFCF4264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4734-FDE3-44D4-9760-B85B61C18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73565AD-A831-43A9-A371-C3178F52D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60FB-6145-409F-A449-D55E856FC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D0A2-6FB4-4D20-BADE-F38D277F8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1227-854E-40E8-A1A6-CE9F6A1D8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8AD7-89AA-4F9B-B1E7-D730D5E81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1306-FF3D-434B-AC6C-2BB19B58A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8BAC-0BA3-4904-B534-1750FF92D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2F8892E-FB9B-4568-94F6-D2FC16EFD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D4A8-2736-4881-89A9-E60C4C0B2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02AC722-578D-4F62-996C-0BB64C7F2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AAE0E-3439-447C-AA7F-644C74652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DD488-DE23-4A17-B7EE-69733F208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0D704-A871-4785-A572-7DEDD7233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47D1C-AA85-41C1-89F1-8EBA3EA1D8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3D340-D67C-4F25-B3D6-B33F949A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590D9-3843-4242-B2B3-EF13E478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30F57-BC41-4FB8-B734-F2B5C11F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18A18-DD74-4836-B758-ABF0C830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B1D06-37E4-4276-B575-D9175FB3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595E4-B1AE-4F16-8DA6-8C5E1147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8C9E9-AF80-487D-B588-2A4B9EE5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F394B-05B2-4BA7-A865-EED1DD5C35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F25AF-AB5E-43AD-8A7F-555B2D43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5FD95-29CA-490E-BFC7-92F73BC4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F6D97-E7D2-4A3C-9214-61E9FA95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021DD-8EBC-4918-BCD2-67181655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BEB09-BD13-4F78-B90F-C3C0EA59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17C7C-3EAE-4E65-8465-8532C3C24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43BC3-50B7-4DE5-B7F2-D3024B569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82A2F-98B6-42BF-9855-C4853EF00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335F4-38ED-44FE-9ACF-5F990B91E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BE494-E914-47BE-A8A9-A49FBFC93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3D901-F05F-4B58-9F1A-5D17842720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59059-E78A-46B8-910D-516EC8826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8CC2-2FF9-4159-BEB5-6E70234828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B603-C196-41E3-BCC6-85E4ACFF54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wmf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wmf"/><Relationship Id="rId11" Type="http://schemas.openxmlformats.org/officeDocument/2006/relationships/image" Target="../media/image23.png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1916280" y="2286000"/>
            <a:ext cx="7075440" cy="15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Контроль процессов: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Обращение с проб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0"/>
          <p:cNvGrpSpPr/>
          <p:nvPr/>
        </p:nvGrpSpPr>
        <p:grpSpPr>
          <a:xfrm>
            <a:off x="304920" y="1371600"/>
            <a:ext cx="8686800" cy="4800600"/>
            <a:chOff x="304920" y="1371600"/>
            <a:chExt cx="8686800" cy="4800600"/>
          </a:xfrm>
        </p:grpSpPr>
        <p:pic>
          <p:nvPicPr>
            <p:cNvPr id="277" name="Picture 2" descr="5_collection"/>
            <p:cNvPicPr/>
            <p:nvPr/>
          </p:nvPicPr>
          <p:blipFill>
            <a:blip r:embed="rId1"/>
            <a:stretch/>
          </p:blipFill>
          <p:spPr>
            <a:xfrm>
              <a:off x="2286000" y="259092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3" descr="j0409709"/>
            <p:cNvPicPr/>
            <p:nvPr/>
          </p:nvPicPr>
          <p:blipFill>
            <a:blip r:embed="rId2"/>
            <a:srcRect l="23059" t="0" r="0" b="0"/>
            <a:stretch/>
          </p:blipFill>
          <p:spPr>
            <a:xfrm>
              <a:off x="533520" y="2590920"/>
              <a:ext cx="17604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AutoShape 5"/>
            <p:cNvSpPr/>
            <p:nvPr/>
          </p:nvSpPr>
          <p:spPr>
            <a:xfrm>
              <a:off x="4876920" y="1371600"/>
              <a:ext cx="380988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соответству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териалы и контейн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"/>
            <p:cNvSpPr/>
            <p:nvPr/>
          </p:nvSpPr>
          <p:spPr>
            <a:xfrm>
              <a:off x="6172200" y="4495680"/>
              <a:ext cx="251460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Разработ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хорошую систем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ркиров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7"/>
            <p:cNvSpPr/>
            <p:nvPr/>
          </p:nvSpPr>
          <p:spPr>
            <a:xfrm>
              <a:off x="304920" y="4648320"/>
              <a:ext cx="3962160" cy="14475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Оценивать качество всех проб</a:t>
              </a:r>
              <a:r>
                <a:rPr b="1" lang="en-US" sz="2400" spc="-1" strike="noStrike">
                  <a:solidFill>
                    <a:srgbClr val="ffd911"/>
                  </a:solidFill>
                  <a:latin typeface="Verdana"/>
                </a:rPr>
                <a:t> —</a:t>
              </a:r>
              <a:br>
                <a:rPr sz="2400"/>
              </a:b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до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9"/>
            <p:cNvSpPr/>
            <p:nvPr/>
          </p:nvSpPr>
          <p:spPr>
            <a:xfrm>
              <a:off x="380880" y="1371600"/>
              <a:ext cx="3886200" cy="12193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информацию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 взятию пр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Arial"/>
                </a:rPr>
                <a:t>ЧТО-КОГДА-КА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4" descr=""/>
            <p:cNvPicPr/>
            <p:nvPr/>
          </p:nvPicPr>
          <p:blipFill>
            <a:blip r:embed="rId3"/>
            <a:srcRect l="33286" t="0" r="12802" b="0"/>
            <a:stretch/>
          </p:blipFill>
          <p:spPr>
            <a:xfrm>
              <a:off x="4572000" y="4343400"/>
              <a:ext cx="152388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5" descr="6215_lores"/>
            <p:cNvPicPr/>
            <p:nvPr/>
          </p:nvPicPr>
          <p:blipFill>
            <a:blip r:embed="rId4"/>
            <a:srcRect l="54291" t="67985" r="18571" b="6579"/>
            <a:stretch/>
          </p:blipFill>
          <p:spPr>
            <a:xfrm>
              <a:off x="4702320" y="2819520"/>
              <a:ext cx="18507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6" descr="5_containers"/>
            <p:cNvPicPr/>
            <p:nvPr/>
          </p:nvPicPr>
          <p:blipFill>
            <a:blip r:embed="rId5"/>
            <a:stretch/>
          </p:blipFill>
          <p:spPr>
            <a:xfrm>
              <a:off x="6462720" y="2819520"/>
              <a:ext cx="9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7" descr="5_swab_packaging"/>
            <p:cNvPicPr/>
            <p:nvPr/>
          </p:nvPicPr>
          <p:blipFill>
            <a:blip r:embed="rId6"/>
            <a:stretch/>
          </p:blipFill>
          <p:spPr>
            <a:xfrm>
              <a:off x="7315200" y="2819520"/>
              <a:ext cx="12193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18"/>
            <p:cNvSpPr/>
            <p:nvPr/>
          </p:nvSpPr>
          <p:spPr>
            <a:xfrm rot="5400000">
              <a:off x="7657920" y="3543120"/>
              <a:ext cx="2057400" cy="609840"/>
            </a:xfrm>
            <a:prstGeom prst="rightArrow">
              <a:avLst>
                <a:gd name="adj1" fmla="val 50000"/>
                <a:gd name="adj2" fmla="val 84342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9"/>
            <p:cNvSpPr/>
            <p:nvPr/>
          </p:nvSpPr>
          <p:spPr>
            <a:xfrm rot="10800000">
              <a:off x="3809520" y="5638680"/>
              <a:ext cx="2514600" cy="533520"/>
            </a:xfrm>
            <a:prstGeom prst="rightArrow">
              <a:avLst>
                <a:gd name="adj1" fmla="val 50000"/>
                <a:gd name="adj2" fmla="val 121409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4"/>
            <p:cNvSpPr/>
            <p:nvPr/>
          </p:nvSpPr>
          <p:spPr>
            <a:xfrm>
              <a:off x="3429000" y="2362320"/>
              <a:ext cx="1828800" cy="609480"/>
            </a:xfrm>
            <a:prstGeom prst="rightArrow">
              <a:avLst>
                <a:gd name="adj1" fmla="val 50000"/>
                <a:gd name="adj2" fmla="val 81266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Slide Number Placeholder 1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70F8-DD29-4149-A0AA-D2D0FAEFDA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1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09480" y="5335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 ответствен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рос на исследование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рашиваемые анализ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та и время взятия пр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 проб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необходим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инические данны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требу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тактная информация врача, направившего запрос, или уполномоченного л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419720" y="1219320"/>
          <a:ext cx="4495680" cy="521172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36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 ПО ВЫЯВЛЕ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ТИРЕОЗ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  №.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новорожденного ____________________ Дата и время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й адрес ________________________  взятия про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   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нтификационный номер пациент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 при рождении _________________ кг ________________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 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 ______________________________________________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15"/>
          <p:cNvSpPr/>
          <p:nvPr/>
        </p:nvSpPr>
        <p:spPr>
          <a:xfrm>
            <a:off x="0" y="557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68DC-C1A2-4E31-8CF2-29771830BB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9"/>
          <p:cNvSpPr/>
          <p:nvPr/>
        </p:nvSpPr>
        <p:spPr>
          <a:xfrm>
            <a:off x="351000" y="592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DEC6-81EF-493D-B790-3CBF503000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1547640" y="533520"/>
            <a:ext cx="599616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240" y="1294920"/>
            <a:ext cx="792468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я личности                     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контейнера для сб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ециальные треб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ка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165560"/>
            <a:ext cx="3954240" cy="1930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159084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044400" y="4718880"/>
            <a:ext cx="1685880" cy="113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Picture 8" descr="Test_Bracket_patient-safety"/>
          <p:cNvPicPr/>
          <p:nvPr/>
        </p:nvPicPr>
        <p:blipFill>
          <a:blip r:embed="rId4"/>
          <a:stretch/>
        </p:blipFill>
        <p:spPr>
          <a:xfrm>
            <a:off x="5943600" y="259092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309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330B-7E94-42D4-9525-37BB0E2203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396216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Обеспечьте  информацией по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2" name="Picture 5" descr="5_finger_prick_job_aid"/>
          <p:cNvPicPr/>
          <p:nvPr/>
        </p:nvPicPr>
        <p:blipFill>
          <a:blip r:embed="rId1"/>
          <a:stretch/>
        </p:blipFill>
        <p:spPr>
          <a:xfrm>
            <a:off x="4648320" y="609480"/>
            <a:ext cx="4114800" cy="556272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6A20-A9FB-42B7-BE6D-06F022133A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5837400" y="684360"/>
            <a:ext cx="1547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Взятие крови из пальц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5564160" y="990720"/>
            <a:ext cx="2122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егда используйте меры безопасност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7542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ркировк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ркировка каждой пробы должна содерж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онный                                              номер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ициалы сотрудника,                                взявшего пробы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578040" cy="23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669000" y="2639880"/>
            <a:ext cx="914400" cy="3422520"/>
          </a:xfrm>
          <a:prstGeom prst="rect">
            <a:avLst/>
          </a:prstGeom>
          <a:ln w="0">
            <a:noFill/>
          </a:ln>
        </p:spPr>
      </p:pic>
      <p:sp>
        <p:nvSpPr>
          <p:cNvPr id="321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0220-E168-4320-AE87-B2733B6973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04920" y="5181480"/>
            <a:ext cx="75438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Используйте генерируемые компьюте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штрих коды, если воз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DBC0-938D-47DE-9515-C99A2889DB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7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1396800" y="303048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7"/>
            <p:cNvSpPr/>
            <p:nvPr/>
          </p:nvSpPr>
          <p:spPr>
            <a:xfrm>
              <a:off x="5968800" y="4146480"/>
              <a:ext cx="126972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мена дежурства при поступлении пацие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не знает прави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5968800" y="47772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из другого отде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Была дана устная инструкц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5968800" y="303048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Нелегко найти инструкции по взятию про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4"/>
            <p:cNvSpPr/>
            <p:nvPr/>
          </p:nvSpPr>
          <p:spPr>
            <a:xfrm>
              <a:off x="5968800" y="159552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стоянные сотрудники боль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7365600" y="4146480"/>
              <a:ext cx="114300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держка в приемном отдел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органи-зован пост медсест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5867280" y="5422680"/>
              <a:ext cx="114300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9"/>
            <p:cNvSpPr/>
            <p:nvPr/>
          </p:nvSpPr>
          <p:spPr>
            <a:xfrm>
              <a:off x="12700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5"/>
            <p:cNvSpPr/>
            <p:nvPr/>
          </p:nvSpPr>
          <p:spPr>
            <a:xfrm>
              <a:off x="5842080" y="478476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7"/>
            <p:cNvSpPr/>
            <p:nvPr/>
          </p:nvSpPr>
          <p:spPr>
            <a:xfrm>
              <a:off x="72388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6"/>
            <p:cNvSpPr/>
            <p:nvPr/>
          </p:nvSpPr>
          <p:spPr>
            <a:xfrm>
              <a:off x="5079960" y="5900760"/>
              <a:ext cx="711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9"/>
          <p:cNvSpPr/>
          <p:nvPr/>
        </p:nvSpPr>
        <p:spPr>
          <a:xfrm>
            <a:off x="4648320" y="5410080"/>
            <a:ext cx="0" cy="8384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1"/>
          <p:cNvSpPr/>
          <p:nvPr/>
        </p:nvSpPr>
        <p:spPr>
          <a:xfrm>
            <a:off x="4724280" y="640080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2743200" y="297180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6"/>
          <p:cNvSpPr/>
          <p:nvPr/>
        </p:nvSpPr>
        <p:spPr>
          <a:xfrm>
            <a:off x="7238880" y="5367240"/>
            <a:ext cx="1752840" cy="1067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ошибк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аркировке проб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ледствия неправильного взятия проб: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734840"/>
            <a:ext cx="83818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ержки выдачи результатов анализ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лишние повторные взятия проб и анализ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жение удовлетворенности заказч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е затр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ый диагноз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щерб здоровью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рть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DE84-5F8E-4A0A-93D6-021AEB064D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 проведения иссле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336320"/>
            <a:ext cx="64008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ту запроса на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на маркиров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есите в журнал регистр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меняйте критерии отказа в приеме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0C41-D98D-4300-BAA1-78C5ACAF5B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5_label_computer"/>
          <p:cNvPicPr/>
          <p:nvPr/>
        </p:nvPicPr>
        <p:blipFill>
          <a:blip r:embed="rId1"/>
          <a:stretch/>
        </p:blipFill>
        <p:spPr>
          <a:xfrm>
            <a:off x="74674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j0434713"/>
          <p:cNvPicPr/>
          <p:nvPr/>
        </p:nvPicPr>
        <p:blipFill>
          <a:blip r:embed="rId2"/>
          <a:stretch/>
        </p:blipFill>
        <p:spPr>
          <a:xfrm>
            <a:off x="6858000" y="41911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4"/>
          <p:cNvSpPr/>
          <p:nvPr/>
        </p:nvSpPr>
        <p:spPr>
          <a:xfrm>
            <a:off x="5029200" y="472284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тая проба с мочой, причина для отказа в при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457200" y="47242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ированные пробы, заполненные формы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9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86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9A68-6881-4CDD-88FF-78EEE2C4C2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вать ошибки при взятии проб, которые могут привести к неправильным результатам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числить пункты, которые должны быть включены в лабораторную информационную брошюру, разработанную для сотрудников, берущих пробы вне лаборатор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ть критерии отказа в приеме сомнительных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исать систему обращения с пробами, включая сбор, транспортировку, хранение и уничтоже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яснить важность поддержания сохранности проб и обеспечения соблюдения всех нормативов и предписаний при транспортировке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AA06-AECF-46EC-9085-A2109054E9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face_phone_results"/>
          <p:cNvPicPr/>
          <p:nvPr/>
        </p:nvPicPr>
        <p:blipFill>
          <a:blip r:embed="rId1"/>
          <a:stretch/>
        </p:blipFill>
        <p:spPr>
          <a:xfrm>
            <a:off x="6934320" y="91440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ействия в случае отказа в прием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6629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вестите лицо, запросившее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осите другую проб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регистрируйте отклоненные проб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храните отклоненные пробы на основании установленных критерие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ительные ситуации могут потребовать анализа сомнительных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934320" y="2362320"/>
            <a:ext cx="1800000" cy="3809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FIL19"/>
          <p:cNvPicPr/>
          <p:nvPr/>
        </p:nvPicPr>
        <p:blipFill>
          <a:blip r:embed="rId3"/>
          <a:stretch/>
        </p:blipFill>
        <p:spPr>
          <a:xfrm>
            <a:off x="7162920" y="4772160"/>
            <a:ext cx="1828800" cy="1271520"/>
          </a:xfrm>
          <a:prstGeom prst="rect">
            <a:avLst/>
          </a:prstGeom>
          <a:ln w="0">
            <a:noFill/>
          </a:ln>
        </p:spPr>
      </p:pic>
      <p:sp>
        <p:nvSpPr>
          <p:cNvPr id="394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8208-9FD6-48A9-AEDE-E8D4F4DE4C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93840"/>
            <a:ext cx="86868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 приема или регистрации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7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53040" y="1162080"/>
            <a:ext cx="2633760" cy="26812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4"/>
          <p:cNvSpPr/>
          <p:nvPr/>
        </p:nvSpPr>
        <p:spPr>
          <a:xfrm>
            <a:off x="457200" y="1143000"/>
            <a:ext cx="845820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ен включа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поступ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лаборато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пр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мографические данные, если требуют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своенный в лаборатории идентификационный ном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ое исслед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80DF-44E1-40C7-AF3A-9EAA925A9F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 вручну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320" y="1182600"/>
            <a:ext cx="89913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твердите получение, укажите дату и в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екватно промаркируйте проб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раните вместе с запросом на анализ до тех пор, пока им не будет присвоен 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йте аликвоты – их связь с исходной проб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E6B1-E973-4E04-916E-FBAB03C6A9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5_date_stamp"/>
          <p:cNvPicPr/>
          <p:nvPr/>
        </p:nvPicPr>
        <p:blipFill>
          <a:blip r:embed="rId2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5_req_form"/>
          <p:cNvPicPr/>
          <p:nvPr/>
        </p:nvPicPr>
        <p:blipFill>
          <a:blip r:embed="rId3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1"/>
          <p:cNvSpPr/>
          <p:nvPr/>
        </p:nvSpPr>
        <p:spPr>
          <a:xfrm>
            <a:off x="1676520" y="4114800"/>
            <a:ext cx="1752480" cy="152388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в базе данных должны включ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зяти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ашиваемое 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врача, запросившего исследова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нахождения пациента (палата, клиника, поликлиник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ыдач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AC6A-5D77-4F7E-8EAB-E507368C81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5720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 компьют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120" y="120960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ращайтесь со всеми пробами, как если бы они были инфекцио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457200" y="380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проб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9"/>
          <p:cNvGrpSpPr/>
          <p:nvPr/>
        </p:nvGrpSpPr>
        <p:grpSpPr>
          <a:xfrm>
            <a:off x="1600200" y="2362320"/>
            <a:ext cx="6400800" cy="3657600"/>
            <a:chOff x="1600200" y="2362320"/>
            <a:chExt cx="6400800" cy="3657600"/>
          </a:xfrm>
        </p:grpSpPr>
        <p:pic>
          <p:nvPicPr>
            <p:cNvPr id="417" name="Picture 6" descr="5730_lores"/>
            <p:cNvPicPr/>
            <p:nvPr/>
          </p:nvPicPr>
          <p:blipFill>
            <a:blip r:embed="rId1"/>
            <a:stretch/>
          </p:blipFill>
          <p:spPr>
            <a:xfrm>
              <a:off x="2057400" y="2467080"/>
              <a:ext cx="4229280" cy="31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7" descr="bio_hazrd_red_blk_cdc"/>
            <p:cNvPicPr/>
            <p:nvPr/>
          </p:nvPicPr>
          <p:blipFill>
            <a:blip r:embed="rId2"/>
            <a:stretch/>
          </p:blipFill>
          <p:spPr>
            <a:xfrm>
              <a:off x="5105520" y="3762360"/>
              <a:ext cx="289548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WordArt 8"/>
            <p:cNvSpPr txBox="1"/>
            <p:nvPr/>
          </p:nvSpPr>
          <p:spPr>
            <a:xfrm>
              <a:off x="1600200" y="2362320"/>
              <a:ext cx="617220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Общие меры предосторожности</a:t>
              </a:r>
              <a:endPara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20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E91B-03C6-4657-AA8F-5D7C8B3579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проб – задокументированные правил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68580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яющ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пробы хран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ой ср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каком мес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каких услови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ю хранен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4" descr="storage_fridge"/>
          <p:cNvPicPr/>
          <p:nvPr/>
        </p:nvPicPr>
        <p:blipFill>
          <a:blip r:embed="rId1"/>
          <a:srcRect l="22117" t="14899" r="33172" b="14899"/>
          <a:stretch/>
        </p:blipFill>
        <p:spPr>
          <a:xfrm>
            <a:off x="6172200" y="1905120"/>
            <a:ext cx="2522520" cy="2941560"/>
          </a:xfrm>
          <a:prstGeom prst="rect">
            <a:avLst/>
          </a:prstGeom>
          <a:ln w="0">
            <a:noFill/>
          </a:ln>
        </p:spPr>
      </p:pic>
      <p:sp>
        <p:nvSpPr>
          <p:cNvPr id="4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BD2E-D6BA-4DE1-A8EE-4AF68449E8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рок хранения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5562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правила по срокам 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ите за пробами на хранении, за тем, сколько раз они были заморожены/размороже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держивайте организованную и доступную систе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едите график пересмотра всех проб в хран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процедуры по отсле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4" descr="freezer2"/>
          <p:cNvPicPr/>
          <p:nvPr/>
        </p:nvPicPr>
        <p:blipFill>
          <a:blip r:embed="rId1"/>
          <a:stretch/>
        </p:blipFill>
        <p:spPr>
          <a:xfrm>
            <a:off x="6019920" y="1600200"/>
            <a:ext cx="3046320" cy="403848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FF5B-8D3B-4BBD-A2FA-3F505D1DC5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проб в другие (субподрядные) лаборатор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37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данные проб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ату переда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амилию лица,                                       передавшего проб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и 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ремя выполнения анали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ставка результато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 субподрядной лаборатории в собственную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блемы с передачей проб на анали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4" descr="4_log_book"/>
          <p:cNvPicPr/>
          <p:nvPr/>
        </p:nvPicPr>
        <p:blipFill>
          <a:blip r:embed="rId1"/>
          <a:stretch/>
        </p:blipFill>
        <p:spPr>
          <a:xfrm>
            <a:off x="5943600" y="1579680"/>
            <a:ext cx="2895480" cy="238284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7164-0B1C-4D2E-AD7F-82E1469065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езопасное уничтожение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ленные правила по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полнение местных и государственных прави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по обеззара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5" descr="biohazard_bag"/>
          <p:cNvPicPr/>
          <p:nvPr/>
        </p:nvPicPr>
        <p:blipFill>
          <a:blip r:embed="rId1"/>
          <a:stretch/>
        </p:blipFill>
        <p:spPr>
          <a:xfrm>
            <a:off x="3666960" y="40384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19200" y="3962520"/>
            <a:ext cx="2666880" cy="2143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MCj03266380000[1]"/>
          <p:cNvPicPr/>
          <p:nvPr/>
        </p:nvPicPr>
        <p:blipFill>
          <a:blip r:embed="rId3"/>
          <a:stretch/>
        </p:blipFill>
        <p:spPr>
          <a:xfrm>
            <a:off x="6029280" y="4038480"/>
            <a:ext cx="2505240" cy="206064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0700-FB38-44A9-A256-DF6F264DFD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нспортировка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3818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ие меры по                          поддержанию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контейнеры               для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ия по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блюдение требований                                                       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437160" y="2077920"/>
            <a:ext cx="2401920" cy="2874960"/>
          </a:xfrm>
          <a:prstGeom prst="rect">
            <a:avLst/>
          </a:prstGeom>
          <a:ln w="0">
            <a:noFill/>
          </a:ln>
        </p:spPr>
      </p:pic>
      <p:sp>
        <p:nvSpPr>
          <p:cNvPr id="447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406A-1B54-4DAF-A48C-7C8D5103FF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71440" y="4572000"/>
            <a:ext cx="579132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проверя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дела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MCj04377970000[1]"/>
          <p:cNvPicPr/>
          <p:nvPr/>
        </p:nvPicPr>
        <p:blipFill>
          <a:blip r:embed="rId1"/>
          <a:stretch/>
        </p:blipFill>
        <p:spPr>
          <a:xfrm>
            <a:off x="533520" y="4267080"/>
            <a:ext cx="1981080" cy="1782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57200" y="76212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итуация: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Ваша лаборатория провела ПЦР исследование на выявление вируса гриппа в пробах пациентов из «больницы А». Большинство результатов отрицатель-ные. Врачи «больницы А» утверждают, что у их пациентов наблюдаются явно выра-женные клинические симптомы гриппа»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4EB7-04FF-4FD3-8BF3-76D8C93BDB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380880" y="609480"/>
            <a:ext cx="85345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799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Откуда они берутся?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их разрабатывает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228600" y="3321000"/>
            <a:ext cx="8686800" cy="240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Государственные нормативы по транспортир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Правила транспортировки по воздуху ИКАО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И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Организации наземного и морского транспорта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Служба доставки поч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Частные курьерски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02CD-EC0E-47CC-B762-A3989E414D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1" descr="images.jpg"/>
          <p:cNvPicPr/>
          <p:nvPr/>
        </p:nvPicPr>
        <p:blipFill>
          <a:blip r:embed="rId1"/>
          <a:stretch/>
        </p:blipFill>
        <p:spPr>
          <a:xfrm>
            <a:off x="2873520" y="4648320"/>
            <a:ext cx="741240" cy="7048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16"/>
          <p:cNvGrpSpPr/>
          <p:nvPr/>
        </p:nvGrpSpPr>
        <p:grpSpPr>
          <a:xfrm>
            <a:off x="228600" y="1206360"/>
            <a:ext cx="8686440" cy="4965480"/>
            <a:chOff x="228600" y="1206360"/>
            <a:chExt cx="8686440" cy="4965480"/>
          </a:xfrm>
        </p:grpSpPr>
        <p:grpSp>
          <p:nvGrpSpPr>
            <p:cNvPr id="455" name="Organization Chart 2"/>
            <p:cNvGrpSpPr/>
            <p:nvPr/>
          </p:nvGrpSpPr>
          <p:grpSpPr>
            <a:xfrm>
              <a:off x="228600" y="1206360"/>
              <a:ext cx="8686440" cy="4965480"/>
              <a:chOff x="228600" y="1206360"/>
              <a:chExt cx="8686440" cy="4965480"/>
            </a:xfrm>
          </p:grpSpPr>
          <p:cxnSp>
            <p:nvCxnSpPr>
              <p:cNvPr id="456" name="_s218116"/>
              <p:cNvCxnSpPr>
                <a:stCxn id="457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361224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59" name="_s218117"/>
              <p:cNvCxnSpPr>
                <a:stCxn id="460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225648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61" name="_s218118"/>
              <p:cNvCxnSpPr>
                <a:stCxn id="462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90396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sp>
            <p:nvSpPr>
              <p:cNvPr id="458" name="_s218119"/>
              <p:cNvSpPr/>
              <p:nvPr/>
            </p:nvSpPr>
            <p:spPr>
              <a:xfrm>
                <a:off x="228600" y="1206360"/>
                <a:ext cx="512028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9f67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Обязательное выполнен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_s218120"/>
              <p:cNvSpPr/>
              <p:nvPr/>
            </p:nvSpPr>
            <p:spPr>
              <a:xfrm>
                <a:off x="3565800" y="256032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Нарушени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_s218121"/>
              <p:cNvSpPr/>
              <p:nvPr/>
            </p:nvSpPr>
            <p:spPr>
              <a:xfrm>
                <a:off x="3565800" y="391464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авила по ликвидации последствий аварий и разлитий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–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нижение биологической опас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_s218122"/>
              <p:cNvSpPr/>
              <p:nvPr/>
            </p:nvSpPr>
            <p:spPr>
              <a:xfrm>
                <a:off x="3565800" y="526860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Безопасность: курьеров, лабораторного персонала, пассажиров, перевозч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AutoShape 11"/>
              <p:cNvSpPr/>
              <p:nvPr/>
            </p:nvSpPr>
            <p:spPr>
              <a:xfrm>
                <a:off x="5717520" y="2730240"/>
                <a:ext cx="835200" cy="685800"/>
              </a:xfrm>
              <a:custGeom>
                <a:avLst/>
                <a:gdLst>
                  <a:gd name="textAreaLeft" fmla="*/ 129960 w 835200"/>
                  <a:gd name="textAreaRight" fmla="*/ 730440 w 835200"/>
                  <a:gd name="textAreaTop" fmla="*/ 171360 h 685800"/>
                  <a:gd name="textAreaBottom" fmla="*/ 51444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lnTo>
                      <a:pt x="16200" y="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lnTo>
                      <a:pt x="135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Picture 12"/>
              <p:cNvSpPr/>
              <p:nvPr/>
            </p:nvSpPr>
            <p:spPr>
              <a:xfrm>
                <a:off x="2819520" y="478764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Picture 13" descr="j0424198"/>
            <p:cNvPicPr/>
            <p:nvPr/>
          </p:nvPicPr>
          <p:blipFill>
            <a:blip r:embed="rId2"/>
            <a:stretch/>
          </p:blipFill>
          <p:spPr>
            <a:xfrm>
              <a:off x="6553440" y="2197080"/>
              <a:ext cx="2209680" cy="14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Text Box 2"/>
          <p:cNvSpPr/>
          <p:nvPr/>
        </p:nvSpPr>
        <p:spPr>
          <a:xfrm>
            <a:off x="152280" y="434880"/>
            <a:ext cx="876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9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C81B-2A4A-46C8-A640-4F5DEA2389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20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304920" y="3697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52280" y="14590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вая классификация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ана на 2 транспортных категор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304920" y="1969920"/>
            <a:ext cx="876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тегория</a:t>
            </a: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 A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екционные материалы, способные вызвать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лительную нетрудо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пасное для жизни или смертельное заболевание людей или людей и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аковка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ее прочная тройная упаковка с наличием всех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кументов по опасному груз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ерсонала, задействованного в перево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FC42-7D76-42DF-B608-4577CAD3F8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3"/>
          <p:cNvSpPr/>
          <p:nvPr/>
        </p:nvSpPr>
        <p:spPr>
          <a:xfrm>
            <a:off x="533520" y="1808280"/>
            <a:ext cx="8381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Категория Б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екционные материалы, не входящие в категорию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е строгие требования к тройной упак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требуется</a:t>
            </a: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ации по опасному гру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1A50-A7C3-45E1-891F-7EDFD46E84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04920" y="44604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"/>
          <p:cNvSpPr/>
          <p:nvPr/>
        </p:nvSpPr>
        <p:spPr>
          <a:xfrm>
            <a:off x="457200" y="482760"/>
            <a:ext cx="52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клю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04920" y="1146240"/>
            <a:ext cx="83818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инфекцио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патогенные орган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содержащие нейтрализованные или инактивированные патог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из окружающей среды, не представляющие опасности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вь и компоненты крови, предназначенные для перел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кани и органы, разрешенные для транспла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высушенной крови или для выявления скрытого кровотечения в фекал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ззараженные медицинские и клинические от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99E6-F29E-4409-98E3-B1D287C591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380880" y="57150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en-GB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ed (rev) of UN Model Regulations</a:t>
            </a:r>
            <a:r>
              <a:rPr b="1" lang="fr-CH" sz="1400" spc="-1" strike="noStrike">
                <a:solidFill>
                  <a:srgbClr val="00007d"/>
                </a:solidFill>
                <a:latin typeface="Verdana"/>
              </a:rPr>
              <a:t> for the Transport of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3124080" y="1828800"/>
            <a:ext cx="297180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33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533520" y="42084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ойная упаковка 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ОН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76320" y="1828800"/>
            <a:ext cx="29718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ерфорацию с силой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ировка и этикетки О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документация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асному грузу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UNMARK98"/>
          <p:cNvPicPr/>
          <p:nvPr/>
        </p:nvPicPr>
        <p:blipFill>
          <a:blip r:embed="rId1"/>
          <a:stretch/>
        </p:blipFill>
        <p:spPr>
          <a:xfrm>
            <a:off x="1566720" y="5791320"/>
            <a:ext cx="1557360" cy="339480"/>
          </a:xfrm>
          <a:prstGeom prst="rect">
            <a:avLst/>
          </a:prstGeom>
          <a:ln w="0">
            <a:noFill/>
          </a:ln>
        </p:spPr>
      </p:pic>
      <p:sp>
        <p:nvSpPr>
          <p:cNvPr id="488" name="Line 7"/>
          <p:cNvSpPr/>
          <p:nvPr/>
        </p:nvSpPr>
        <p:spPr>
          <a:xfrm>
            <a:off x="31240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415800" y="182880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52280" y="12193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3352680" y="121932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"/>
          <p:cNvGrpSpPr/>
          <p:nvPr/>
        </p:nvGrpSpPr>
        <p:grpSpPr>
          <a:xfrm>
            <a:off x="4800600" y="4749840"/>
            <a:ext cx="741240" cy="812880"/>
            <a:chOff x="4800600" y="4749840"/>
            <a:chExt cx="741240" cy="812880"/>
          </a:xfrm>
        </p:grpSpPr>
        <p:sp>
          <p:nvSpPr>
            <p:cNvPr id="493" name="AutoShape 11"/>
            <p:cNvSpPr/>
            <p:nvPr/>
          </p:nvSpPr>
          <p:spPr>
            <a:xfrm>
              <a:off x="4800600" y="4749840"/>
              <a:ext cx="741240" cy="81288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2"/>
            <p:cNvSpPr/>
            <p:nvPr/>
          </p:nvSpPr>
          <p:spPr>
            <a:xfrm>
              <a:off x="4854960" y="5029200"/>
              <a:ext cx="63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UN 337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"/>
          <p:cNvGrpSpPr/>
          <p:nvPr/>
        </p:nvGrpSpPr>
        <p:grpSpPr>
          <a:xfrm>
            <a:off x="2260440" y="2540160"/>
            <a:ext cx="739800" cy="812520"/>
            <a:chOff x="2260440" y="2540160"/>
            <a:chExt cx="739800" cy="812520"/>
          </a:xfrm>
        </p:grpSpPr>
        <p:sp>
          <p:nvSpPr>
            <p:cNvPr id="496" name="AutoShape 3"/>
            <p:cNvSpPr/>
            <p:nvPr/>
          </p:nvSpPr>
          <p:spPr>
            <a:xfrm>
              <a:off x="2260440" y="2540160"/>
              <a:ext cx="739800" cy="8125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13" descr="biohazard symbol II"/>
            <p:cNvPicPr/>
            <p:nvPr/>
          </p:nvPicPr>
          <p:blipFill>
            <a:blip r:embed="rId2"/>
            <a:stretch/>
          </p:blipFill>
          <p:spPr>
            <a:xfrm>
              <a:off x="2543040" y="2671920"/>
              <a:ext cx="183960" cy="1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14"/>
            <p:cNvSpPr/>
            <p:nvPr/>
          </p:nvSpPr>
          <p:spPr>
            <a:xfrm>
              <a:off x="2523600" y="30765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Line 15"/>
          <p:cNvSpPr/>
          <p:nvPr/>
        </p:nvSpPr>
        <p:spPr>
          <a:xfrm>
            <a:off x="60958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6095880" y="1106640"/>
            <a:ext cx="31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ы от люде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тных – ис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1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6575-9D0F-42F6-8D85-DA8B39F083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1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6094440" y="1828800"/>
            <a:ext cx="29732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екват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атегория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C59E-D9C7-45D8-940F-4FBB361045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8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71560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транспортировкой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блюдайте все необходимые прави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 всем процедурам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ремя транспортиров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аковка и другие меры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CB34-51BD-4DCA-ABF8-BC110D4A95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3962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80520" y="121248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абораторной информацион-ной брошюрой всех пользователе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едите систему отслеживания пути перемещения проб по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и внедрите правила по хранению и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сохранностью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блюдение всех предписаний и нормативов по транспортировке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Всегда следуйте общим правилам техники безопас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EB54-A938-46FC-B0DA-94E7EB3206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должна получать качественные пробы для того, чтобы обеспечить как правильность и надежность анализов, так и уверенность в их результата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напрямую влияет на ход и результаты лечения боль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5A8E-DE1A-41B7-9D55-AC253C467E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56A2-B5D5-405C-AB86-FE45EB9B9C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DAF5-843F-43D8-9FB6-9C74B3C049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3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3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4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4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5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7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2280" y="434880"/>
            <a:ext cx="876312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зультат любого лабораторного анализа будет хорош настолько, насколько хорошей была полученная лабораторией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б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j0177963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j0400583"/>
          <p:cNvPicPr/>
          <p:nvPr/>
        </p:nvPicPr>
        <p:blipFill>
          <a:blip r:embed="rId2"/>
          <a:stretch/>
        </p:blipFill>
        <p:spPr>
          <a:xfrm>
            <a:off x="1447920" y="2898720"/>
            <a:ext cx="2495520" cy="312120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A978-B52C-4BE0-9818-F19BD815BE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6" descr=""/>
          <p:cNvPicPr/>
          <p:nvPr/>
        </p:nvPicPr>
        <p:blipFill>
          <a:blip r:embed="rId1"/>
          <a:stretch/>
        </p:blipFill>
        <p:spPr>
          <a:xfrm>
            <a:off x="6095880" y="4000680"/>
            <a:ext cx="2138400" cy="2628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"/>
          <p:cNvPicPr/>
          <p:nvPr/>
        </p:nvPicPr>
        <p:blipFill>
          <a:blip r:embed="rId2"/>
          <a:stretch/>
        </p:blipFill>
        <p:spPr>
          <a:xfrm>
            <a:off x="838080" y="1214280"/>
            <a:ext cx="2468520" cy="1676520"/>
          </a:xfrm>
          <a:prstGeom prst="rect">
            <a:avLst/>
          </a:prstGeom>
          <a:ln w="0">
            <a:noFill/>
          </a:ln>
        </p:spPr>
      </p:pic>
      <p:sp>
        <p:nvSpPr>
          <p:cNvPr id="21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41C0-3EBB-4A03-BE3E-D136AFD3A8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Diagram 2"/>
          <p:cNvGrpSpPr/>
          <p:nvPr/>
        </p:nvGrpSpPr>
        <p:grpSpPr>
          <a:xfrm>
            <a:off x="307800" y="649440"/>
            <a:ext cx="8606880" cy="5639760"/>
            <a:chOff x="307800" y="649440"/>
            <a:chExt cx="8606880" cy="5639760"/>
          </a:xfrm>
        </p:grpSpPr>
        <p:sp>
          <p:nvSpPr>
            <p:cNvPr id="214" name="Picture 5"/>
            <p:cNvSpPr/>
            <p:nvPr/>
          </p:nvSpPr>
          <p:spPr>
            <a:xfrm>
              <a:off x="912600" y="1219680"/>
              <a:ext cx="239472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6150"/>
            <p:cNvSpPr/>
            <p:nvPr/>
          </p:nvSpPr>
          <p:spPr>
            <a:xfrm flipH="1">
              <a:off x="245520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6151"/>
            <p:cNvSpPr/>
            <p:nvPr/>
          </p:nvSpPr>
          <p:spPr>
            <a:xfrm>
              <a:off x="307800" y="2764440"/>
              <a:ext cx="251280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продуктивность лаборатор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6152"/>
            <p:cNvSpPr/>
            <p:nvPr/>
          </p:nvSpPr>
          <p:spPr>
            <a:xfrm>
              <a:off x="460944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6153"/>
            <p:cNvSpPr/>
            <p:nvPr/>
          </p:nvSpPr>
          <p:spPr>
            <a:xfrm>
              <a:off x="3535200" y="4879800"/>
              <a:ext cx="21510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рямо влияет на лечение и его результа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6154"/>
            <p:cNvSpPr/>
            <p:nvPr/>
          </p:nvSpPr>
          <p:spPr>
            <a:xfrm>
              <a:off x="568368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6155"/>
            <p:cNvSpPr/>
            <p:nvPr/>
          </p:nvSpPr>
          <p:spPr>
            <a:xfrm>
              <a:off x="6763680" y="2764440"/>
              <a:ext cx="215100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решения врач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6156"/>
            <p:cNvSpPr/>
            <p:nvPr/>
          </p:nvSpPr>
          <p:spPr>
            <a:xfrm flipV="1">
              <a:off x="4609440" y="205668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6157"/>
            <p:cNvSpPr/>
            <p:nvPr/>
          </p:nvSpPr>
          <p:spPr>
            <a:xfrm>
              <a:off x="3200760" y="649440"/>
              <a:ext cx="279612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Verdana"/>
                </a:rPr>
                <a:t>Обязательно для правильного лабораторного диагноз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6158"/>
            <p:cNvSpPr/>
            <p:nvPr/>
          </p:nvSpPr>
          <p:spPr>
            <a:xfrm>
              <a:off x="3535200" y="2764440"/>
              <a:ext cx="215100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3352680" y="274320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911"/>
                </a:solidFill>
                <a:latin typeface="Verdana"/>
              </a:rPr>
              <a:t>Правильное обращение с про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6" descr=""/>
          <p:cNvPicPr/>
          <p:nvPr/>
        </p:nvPicPr>
        <p:blipFill>
          <a:blip r:embed="rId1"/>
          <a:stretch/>
        </p:blipFill>
        <p:spPr>
          <a:xfrm>
            <a:off x="2322360" y="990720"/>
            <a:ext cx="1106640" cy="103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2" descr=""/>
          <p:cNvPicPr/>
          <p:nvPr/>
        </p:nvPicPr>
        <p:blipFill>
          <a:blip r:embed="rId2"/>
          <a:stretch/>
        </p:blipFill>
        <p:spPr>
          <a:xfrm>
            <a:off x="1233360" y="487692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9" descr=""/>
          <p:cNvPicPr/>
          <p:nvPr/>
        </p:nvPicPr>
        <p:blipFill>
          <a:blip r:embed="rId3"/>
          <a:stretch/>
        </p:blipFill>
        <p:spPr>
          <a:xfrm>
            <a:off x="5881680" y="47545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8" descr=""/>
          <p:cNvPicPr/>
          <p:nvPr/>
        </p:nvPicPr>
        <p:blipFill>
          <a:blip r:embed="rId4"/>
          <a:stretch/>
        </p:blipFill>
        <p:spPr>
          <a:xfrm>
            <a:off x="7775640" y="5083200"/>
            <a:ext cx="1147680" cy="1012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"/>
          <p:cNvPicPr/>
          <p:nvPr/>
        </p:nvPicPr>
        <p:blipFill>
          <a:blip r:embed="rId5"/>
          <a:stretch/>
        </p:blipFill>
        <p:spPr>
          <a:xfrm>
            <a:off x="7391520" y="2597040"/>
            <a:ext cx="1301760" cy="1365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5_req_form"/>
          <p:cNvPicPr/>
          <p:nvPr/>
        </p:nvPicPr>
        <p:blipFill>
          <a:blip r:embed="rId6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5"/>
          <p:cNvSpPr/>
          <p:nvPr/>
        </p:nvSpPr>
        <p:spPr>
          <a:xfrm>
            <a:off x="938160" y="1266840"/>
            <a:ext cx="1195560" cy="108360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**ЛАБ. КАЧЕСТВА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7" descr="j0404235"/>
          <p:cNvPicPr/>
          <p:nvPr/>
        </p:nvPicPr>
        <p:blipFill>
          <a:blip r:embed="rId7"/>
          <a:stretch/>
        </p:blipFill>
        <p:spPr>
          <a:xfrm>
            <a:off x="5881680" y="5622840"/>
            <a:ext cx="1044720" cy="1141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4" descr="5-sample_containers"/>
          <p:cNvPicPr/>
          <p:nvPr/>
        </p:nvPicPr>
        <p:blipFill>
          <a:blip r:embed="rId8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5" descr="6216_thumb"/>
          <p:cNvPicPr/>
          <p:nvPr/>
        </p:nvPicPr>
        <p:blipFill>
          <a:blip r:embed="rId9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grpSp>
        <p:nvGrpSpPr>
          <p:cNvPr id="236" name="Diagram 2"/>
          <p:cNvGrpSpPr/>
          <p:nvPr/>
        </p:nvGrpSpPr>
        <p:grpSpPr>
          <a:xfrm>
            <a:off x="1066680" y="915840"/>
            <a:ext cx="7773480" cy="5486040"/>
            <a:chOff x="1066680" y="915840"/>
            <a:chExt cx="7773480" cy="5486040"/>
          </a:xfrm>
        </p:grpSpPr>
        <p:sp>
          <p:nvSpPr>
            <p:cNvPr id="237" name="Picture 4"/>
            <p:cNvSpPr/>
            <p:nvPr/>
          </p:nvSpPr>
          <p:spPr>
            <a:xfrm rot="21392400">
              <a:off x="7697160" y="2742840"/>
              <a:ext cx="96840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245"/>
            <p:cNvSpPr/>
            <p:nvPr/>
          </p:nvSpPr>
          <p:spPr>
            <a:xfrm flipH="1" flipV="1">
              <a:off x="3309840" y="292212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247"/>
            <p:cNvSpPr/>
            <p:nvPr/>
          </p:nvSpPr>
          <p:spPr>
            <a:xfrm flipH="1">
              <a:off x="3309840" y="392760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248"/>
            <p:cNvSpPr/>
            <p:nvPr/>
          </p:nvSpPr>
          <p:spPr>
            <a:xfrm>
              <a:off x="1548360" y="3962520"/>
              <a:ext cx="1883160" cy="1170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Транспортиров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249"/>
            <p:cNvSpPr/>
            <p:nvPr/>
          </p:nvSpPr>
          <p:spPr>
            <a:xfrm>
              <a:off x="4876560" y="426240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250"/>
            <p:cNvSpPr/>
            <p:nvPr/>
          </p:nvSpPr>
          <p:spPr>
            <a:xfrm>
              <a:off x="3624840" y="4932000"/>
              <a:ext cx="24714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Сроки и условия хранения, уничто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251"/>
            <p:cNvSpPr/>
            <p:nvPr/>
          </p:nvSpPr>
          <p:spPr>
            <a:xfrm>
              <a:off x="5659560" y="3927600"/>
              <a:ext cx="817560" cy="33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0252"/>
            <p:cNvSpPr/>
            <p:nvPr/>
          </p:nvSpPr>
          <p:spPr>
            <a:xfrm>
              <a:off x="6327000" y="3927600"/>
              <a:ext cx="2513160" cy="1205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Оценка, обработка, отслеж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0253"/>
            <p:cNvSpPr/>
            <p:nvPr/>
          </p:nvSpPr>
          <p:spPr>
            <a:xfrm flipV="1">
              <a:off x="5659560" y="29246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10254"/>
            <p:cNvSpPr/>
            <p:nvPr/>
          </p:nvSpPr>
          <p:spPr>
            <a:xfrm>
              <a:off x="6321600" y="19206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Маркир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10255"/>
            <p:cNvSpPr/>
            <p:nvPr/>
          </p:nvSpPr>
          <p:spPr>
            <a:xfrm flipH="1" flipV="1">
              <a:off x="4622400" y="2255040"/>
              <a:ext cx="25380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10257"/>
            <p:cNvSpPr/>
            <p:nvPr/>
          </p:nvSpPr>
          <p:spPr>
            <a:xfrm>
              <a:off x="3971880" y="29250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icture 18"/>
            <p:cNvSpPr/>
            <p:nvPr/>
          </p:nvSpPr>
          <p:spPr>
            <a:xfrm>
              <a:off x="3429360" y="5562360"/>
              <a:ext cx="65880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Picture 19"/>
            <p:cNvSpPr/>
            <p:nvPr/>
          </p:nvSpPr>
          <p:spPr>
            <a:xfrm>
              <a:off x="1066680" y="4953240"/>
              <a:ext cx="965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Picture 11"/>
            <p:cNvSpPr/>
            <p:nvPr/>
          </p:nvSpPr>
          <p:spPr>
            <a:xfrm>
              <a:off x="7620480" y="4953240"/>
              <a:ext cx="1065960" cy="9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icture 19"/>
            <p:cNvSpPr/>
            <p:nvPr/>
          </p:nvSpPr>
          <p:spPr>
            <a:xfrm>
              <a:off x="7239600" y="3351600"/>
              <a:ext cx="838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icture 13"/>
            <p:cNvSpPr/>
            <p:nvPr/>
          </p:nvSpPr>
          <p:spPr>
            <a:xfrm>
              <a:off x="1066680" y="3580560"/>
              <a:ext cx="107136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Picture 7"/>
            <p:cNvSpPr/>
            <p:nvPr/>
          </p:nvSpPr>
          <p:spPr>
            <a:xfrm>
              <a:off x="2818080" y="1293480"/>
              <a:ext cx="129420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Picture 14"/>
            <p:cNvSpPr/>
            <p:nvPr/>
          </p:nvSpPr>
          <p:spPr>
            <a:xfrm>
              <a:off x="5562000" y="4494960"/>
              <a:ext cx="114300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Picture 25"/>
            <p:cNvSpPr/>
            <p:nvPr/>
          </p:nvSpPr>
          <p:spPr>
            <a:xfrm>
              <a:off x="4276080" y="2830680"/>
              <a:ext cx="120096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246"/>
            <p:cNvSpPr/>
            <p:nvPr/>
          </p:nvSpPr>
          <p:spPr>
            <a:xfrm>
              <a:off x="1370880" y="1918080"/>
              <a:ext cx="20610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Необходимая информация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0256"/>
            <p:cNvSpPr/>
            <p:nvPr/>
          </p:nvSpPr>
          <p:spPr>
            <a:xfrm>
              <a:off x="3466440" y="915840"/>
              <a:ext cx="2314800" cy="1339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Взятие, сохран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41"/>
          <p:cNvSpPr/>
          <p:nvPr/>
        </p:nvSpPr>
        <p:spPr>
          <a:xfrm>
            <a:off x="3456000" y="2556000"/>
            <a:ext cx="2844720" cy="20444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911"/>
                </a:solidFill>
                <a:latin typeface="Verdana"/>
              </a:rPr>
              <a:t>Лабораторная информацион-ная брошюра</a:t>
            </a:r>
            <a:br>
              <a:rPr sz="2400"/>
            </a:br>
            <a:r>
              <a:rPr b="0" lang="ru-RU" sz="2800" spc="-1" strike="noStrike">
                <a:solidFill>
                  <a:srgbClr val="ffd911"/>
                </a:solidFill>
                <a:latin typeface="Verdana"/>
              </a:rPr>
              <a:t>Правила и прак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0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457200" y="48564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он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1" descr=""/>
          <p:cNvPicPr/>
          <p:nvPr/>
        </p:nvPicPr>
        <p:blipFill>
          <a:blip r:embed="rId11"/>
          <a:stretch/>
        </p:blipFill>
        <p:spPr>
          <a:xfrm rot="240000">
            <a:off x="993600" y="3697200"/>
            <a:ext cx="1140120" cy="658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8" descr="j0205510"/>
          <p:cNvPicPr/>
          <p:nvPr/>
        </p:nvPicPr>
        <p:blipFill>
          <a:blip r:embed="rId12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  <p:sp>
        <p:nvSpPr>
          <p:cNvPr id="264" name="Footer Placeholder 2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2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0A0B-1C86-41FD-B1AC-022FFEED4C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ная информационная брошюр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830240"/>
            <a:ext cx="807732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ит информацию, необходимую для сотрудников, берущих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 во всех пунктах за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известно вс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а быть ссылка 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н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стве по качеств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71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8B14-11FD-4107-9100-18E62687FE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72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j0359051"/>
          <p:cNvPicPr/>
          <p:nvPr/>
        </p:nvPicPr>
        <p:blipFill>
          <a:blip r:embed="rId1"/>
          <a:stretch/>
        </p:blipFill>
        <p:spPr>
          <a:xfrm>
            <a:off x="5181480" y="3124080"/>
            <a:ext cx="3262320" cy="2951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5638680" y="3352680"/>
            <a:ext cx="990720" cy="1169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932120"/>
            <a:ext cx="853416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и адрес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ктные ФИО и номера телефон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ы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исок анализов, выполняемых 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для с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транспортиров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выполнения анализа (время оборота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срочного выполнения анализ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B20A-90FC-473F-8410-5C05E5EB75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457200" y="433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лабораторной информационной брошю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1T12:33:26Z</dcterms:modified>
  <cp:revision>254</cp:revision>
  <dc:subject/>
  <dc:title>Slide 1</dc:title>
</cp:coreProperties>
</file>